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6DA5-5B6A-4299-BD80-B1BCFDB5D8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A663-3DB4-4933-A5C3-10663A427AF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F03-2A73-4CA6-8EBF-2FDD044768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D2C3-F7D9-4030-80EB-4B4BA77EED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A737-1305-47A0-A05B-30122F7F9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D2E2-C50F-4CE5-BC2F-F9CF0481AA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76E6-BF62-474B-8851-FECEE8A297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4D2-6C75-4A15-B181-B4BB2794F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B2C1-4A10-4FD8-AA0E-DC682A4BDA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5B0-3936-4460-AAAE-69806B972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4198-3FE0-48C4-AB84-992152506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9928-BDFC-44F0-AA2F-B4499B9AD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E68-F734-474D-B1EE-334224C3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973-2C38-4035-B3B8-4B56CC1F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F02-4518-4871-9B99-061B98B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1ED-4467-412E-B369-DFFF7B2D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4C2-EB01-4A7D-BE16-922FEA5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AD0-25A1-493D-BDF6-2240EE40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127-823E-4465-BA89-C16C509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8C8-BACA-42D1-B898-CB8DD79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1D7-602A-4684-A445-51AC7B9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AA5-2B30-4D6E-B3A3-B110931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7C3-4D66-400D-B2A7-EBF1F08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409-F48E-4296-B416-9FC29C9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EB7-BB90-4D07-ABA0-C4571BCB7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0A37-0C7B-4EBA-BDF4-E9A47A772F5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hiVzTGKf3IA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aprace.n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youtube.com/watch?v=Fub7pkO-KL4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4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rcRect l="0" t="17564" r="0" b="18007"/>
          <a:stretch/>
        </p:blipFill>
        <p:spPr>
          <a:xfrm>
            <a:off x="15840" y="2714760"/>
            <a:ext cx="9056880" cy="1357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228600" y="639756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iVzTGKf3IA</a:t>
            </a:r>
            <a:r>
              <a:rPr b="0" lang="en-US" sz="1200" spc="-1" strike="noStrike" u="sng">
                <a:solidFill>
                  <a:srgbClr val="376092"/>
                </a:solidFill>
                <a:uFillTx/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go-promo-2.jpg"/>
          <p:cNvPicPr/>
          <p:nvPr/>
        </p:nvPicPr>
        <p:blipFill>
          <a:blip r:embed="rId4"/>
          <a:stretch/>
        </p:blipFill>
        <p:spPr>
          <a:xfrm>
            <a:off x="6553080" y="5068800"/>
            <a:ext cx="2210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98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Support Climb for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379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venementenvergunn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Verzekering (ongevallen/schade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HB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Startnumm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Aandenken (diploma met tijdregistratie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Web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traprace.nl</a:t>
            </a: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ijdregistratiec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start finis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ijdregistratiebor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nergy drink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Vrijwilli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fotograaf filmploe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Banners Climb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Post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rapstic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1e1c11"/>
                </a:solidFill>
                <a:latin typeface="Century Gothic"/>
              </a:rPr>
              <a:t>Ppkl;/Pl.;.,m;l,0p[]- …,µ~≥bv.hkmn≥bnhb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Na afloop social ev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103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Waarom een event met Cf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251460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Promotie van een </a:t>
            </a:r>
            <a:r>
              <a:rPr b="1" lang="nl-NL" sz="1800" spc="-1" strike="noStrike">
                <a:solidFill>
                  <a:srgbClr val="1e1c11"/>
                </a:solidFill>
                <a:latin typeface="Century Gothic"/>
              </a:rPr>
              <a:t>goede gezond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Voor jezelf en anderen: </a:t>
            </a:r>
            <a:r>
              <a:rPr b="1" lang="nl-NL" sz="1800" spc="-1" strike="noStrike">
                <a:solidFill>
                  <a:srgbClr val="1e1c11"/>
                </a:solidFill>
                <a:latin typeface="Century Gothic"/>
              </a:rPr>
              <a:t>Giving back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en activiteit met inh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amen trainen, beleven &amp; prester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timuleer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42800" indent="-26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Verbondenheid &amp; maatschappelijke betrokk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42800" indent="-26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Gezondheid &amp; Bes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‘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xposure’ beperkt door ANBI verkl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inhoud 7"/>
          <p:cNvSpPr/>
          <p:nvPr/>
        </p:nvSpPr>
        <p:spPr>
          <a:xfrm>
            <a:off x="214200" y="495288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Climb for Life 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brengt </a:t>
            </a: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Gemak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 en </a:t>
            </a: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Authentieke Publiciteit  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door het faciliteren van de gehele organis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e1c11"/>
                </a:solidFill>
                <a:latin typeface="Century Gothic"/>
                <a:ea typeface="ＭＳ Ｐゴシック"/>
              </a:rPr>
              <a:t>(vergunning, veiligheid, EHBO, inschrijvingen, tijdregistratie, communicati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304920" y="5257800"/>
            <a:ext cx="83055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54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4061"/>
              </a:solidFill>
              <a:latin typeface="Century Gothic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1e1c11"/>
                </a:solidFill>
                <a:latin typeface="Century Gothic"/>
              </a:rPr>
              <a:t>“</a:t>
            </a:r>
            <a:r>
              <a:rPr b="1" lang="nl-NL" sz="3200" spc="-1" strike="noStrike">
                <a:solidFill>
                  <a:srgbClr val="1e1c11"/>
                </a:solidFill>
                <a:latin typeface="Century Gothic"/>
              </a:rPr>
              <a:t>Breng Daniel naar de to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9 man organiseren (belangeloos) het “nationaal kampioenschap TRAPRAC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voor de aanschaf van een Cell Sor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door de Daniel den Hoed (EUR 175.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rcRect l="0" t="17564" r="0" b="18007"/>
          <a:stretch/>
        </p:blipFill>
        <p:spPr>
          <a:xfrm>
            <a:off x="15840" y="1295280"/>
            <a:ext cx="9056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98400" y="819000"/>
            <a:ext cx="7747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63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Century Gothic"/>
              </a:rPr>
              <a:t>Daniel den H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Wereldberoemd Kanker Onderzoek Centrum in Rotterdam doet baanbrekend werk op gebied van stamcelonderzo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Onder supervisie van prof. dr. Wolter Oosterhuis zijn reeds vele doorbraken gemaa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Het onderzoekscentrum is grotendeels afhankelijk van dona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Onderdeel van Universitair Medisch Centrum Rot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216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EUR 175.000 voor de aanschaf van een cell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kankerstamcellen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iso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cell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Oktober 2010 einde campag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erasmusmc.nl/47463/98694/OosterhuisPI.jpg"/>
          <p:cNvPicPr/>
          <p:nvPr/>
        </p:nvPicPr>
        <p:blipFill>
          <a:blip r:embed="rId3"/>
          <a:stretch/>
        </p:blipFill>
        <p:spPr>
          <a:xfrm>
            <a:off x="500040" y="3591000"/>
            <a:ext cx="1419120" cy="1819080"/>
          </a:xfrm>
          <a:prstGeom prst="rect">
            <a:avLst/>
          </a:prstGeom>
          <a:ln w="0">
            <a:noFill/>
          </a:ln>
        </p:spPr>
      </p:pic>
      <p:sp>
        <p:nvSpPr>
          <p:cNvPr id="74" name="Down Arrow 9"/>
          <p:cNvSpPr/>
          <p:nvPr/>
        </p:nvSpPr>
        <p:spPr>
          <a:xfrm>
            <a:off x="4343400" y="3772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own Arrow 10"/>
          <p:cNvSpPr/>
          <p:nvPr/>
        </p:nvSpPr>
        <p:spPr>
          <a:xfrm>
            <a:off x="4343400" y="4648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77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Breng Daniel naar de 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51424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Te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artijn vd Meulen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This is Go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Hubert Braa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Accentu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Fernand Molenscho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tarcuis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Jeroen Halfweeg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m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enno Bax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hel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Frederik Molenscho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tudio Molenscho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Paul van Katwijk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averick V.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Jaco de Kempenaer 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De Kempenaer Interim Manage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Bas van Vug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Heinek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82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Trap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600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Hoge gebouwen in N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Minimaal 5 x corporate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Juni/juli/Augustus/September/Okto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Opbrengst  5 x EUR 10.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10 juni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Loyens&amp;Loeff R’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Conclusion, Utre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Rotterdam Business School, R’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Primagaz (SHV), Zutp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Achmea, Gronin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Carat, Amster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 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Linklaters, Amster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 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Ministerie OCW, Den H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4724280" y="2133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Fub7pkO-KL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logo-promo-2.jpg"/>
          <p:cNvPicPr/>
          <p:nvPr/>
        </p:nvPicPr>
        <p:blipFill>
          <a:blip r:embed="rId4"/>
          <a:stretch/>
        </p:blipFill>
        <p:spPr>
          <a:xfrm>
            <a:off x="5486400" y="3124080"/>
            <a:ext cx="3352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8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Trap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5909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200 deelnemers (40 tea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lke deelnemer doneert minimaal EUR 25 of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lk team doneert EUR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Bedrijfsleven staat garant voor een minimale opbrengst van EUR 10.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5 compet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Combinatie (tijd icm dona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Snelste tij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Hoogste dona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Support een colleg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Leukste outf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ocial event, na de traprace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Ppkl;/Pl.;.,m;l,0p[]- …,µ~≥bv.hkmn≥bnhb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Na afloop social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race.jpg"/>
          <p:cNvPicPr/>
          <p:nvPr/>
        </p:nvPicPr>
        <p:blipFill>
          <a:blip r:embed="rId3"/>
          <a:stretch/>
        </p:blipFill>
        <p:spPr>
          <a:xfrm>
            <a:off x="1905120" y="1417680"/>
            <a:ext cx="7075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9:22:15Z</dcterms:created>
  <dc:creator>Menno.Bax</dc:creator>
  <dc:description/>
  <dc:language>en-US</dc:language>
  <cp:lastModifiedBy>Jaco de Kempenaer</cp:lastModifiedBy>
  <dcterms:modified xsi:type="dcterms:W3CDTF">2010-06-08T19:30:26Z</dcterms:modified>
  <cp:revision>17</cp:revision>
  <dc:subject/>
  <dc:title>Slide 1</dc:title>
</cp:coreProperties>
</file>